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5A5-9E85-4396-AC1B-522758E1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547-997E-4989-87F6-81705028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E66-E8F5-4AAF-B212-55E639AE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9B5-4DFC-4290-AE71-0EC7A7C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4B1D-47B2-41C9-B655-F233F08A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93B-4CA2-486F-8F50-FC1CF8A6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8DF-E82B-4F7F-BE2B-793EEBE0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0154-657E-42F4-9743-F143C785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A091-33AD-48F1-A168-242896E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B14A-4EEB-4BA8-8C22-605AC40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2871-DE2F-403A-9C34-8A946B7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9B9-3CC0-4C88-8DC2-80DEED64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904-D4E0-44EB-A866-EC1EE52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485F-1790-4001-B172-984444E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1BEC-0FD5-4C07-AD67-30836AA2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DD3D-9C69-495E-B6B4-C9E15985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9DE0-B4DE-463B-90C4-E48DC362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57A-5D01-4F67-A707-523FF1A4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D02-FF87-49FF-A177-FBAD193E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657-229D-4280-973D-149A802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DAF-99C9-4BFF-BF0F-5E47A5AD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409-0419-439A-8D36-7B9C3AB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E3C-6B9D-40B1-BFE0-D6306DB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C70-128B-4D6E-820A-A5EAB2E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494F-C7DC-4077-ADE8-C5939E1C8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CC13-B1F2-4C0F-84F2-12076E43E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La Rutina Diaria de El Mapache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Ryan Hemin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20422800">
            <a:off x="457200" y="2361960"/>
            <a:ext cx="3352680" cy="283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1732200">
            <a:off x="5181120" y="2514240"/>
            <a:ext cx="33530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mañan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n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vanta ensegui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und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pier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32767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590560" cy="144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3962520"/>
            <a:ext cx="5943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ndo el mapache se lavanta, è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añ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No se duch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lav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 pelo y se lava la car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4952880"/>
            <a:ext cx="2590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mañan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pués se baña, el mapache  s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ayun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las fruit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666880" cy="2135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24080" y="41911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11480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pil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s dientes con una cepillo de 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mañan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ne la rop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que èl puede llevar rop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514600" cy="1881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0" y="43434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1911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divir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 una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noche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che, el mapac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acues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once de la noch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" y="4165560"/>
            <a:ext cx="3048120" cy="202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657600" y="4495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uerme ensegui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Es cans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9:19Z</dcterms:created>
  <dc:creator>heminwayrya</dc:creator>
  <dc:description/>
  <dc:language>en-US</dc:language>
  <cp:lastModifiedBy>heminwayrya</cp:lastModifiedBy>
  <dcterms:modified xsi:type="dcterms:W3CDTF">2012-04-05T15:40:35Z</dcterms:modified>
  <cp:revision>11</cp:revision>
  <dc:subject/>
  <dc:title>La Rutina Diaria de El Mapache!</dc:title>
</cp:coreProperties>
</file>